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410-6954-4770-AB64-5567E475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30E-6A2F-4DAD-9F89-E76A821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968-5141-4B2A-B8A5-3952714B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73C-20F4-4B86-881D-71FBE220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BF1-AE2B-46AE-A74F-FBF0E97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C6C-8381-402B-B0C5-0754AA6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108-5767-4B74-A5C6-6B24AD78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497-7BD7-4831-898E-8E0B6036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63A-A8B6-4C98-9F55-AC17CDAF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511-C3AF-4EC4-9611-01799EB6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F48-7C0F-4DB8-AB73-EC927DE8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7C1-8CFD-4796-BC5D-FD6033C7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63B2-340C-49F9-9252-06F2EF83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32000" y="2060640"/>
            <a:ext cx="2592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0880" y="8366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440" y="5805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5440" y="56610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 term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9240" y="692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763280" y="1197000"/>
            <a:ext cx="158436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23040" y="1113480"/>
            <a:ext cx="1614600" cy="137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19280" y="4221000"/>
            <a:ext cx="1944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221000"/>
            <a:ext cx="165564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3:51:18Z</dcterms:created>
  <dc:creator>mcaiytf2</dc:creator>
  <dc:description/>
  <dc:language>en-US</dc:language>
  <cp:lastModifiedBy>mcaiytf2</cp:lastModifiedBy>
  <dcterms:modified xsi:type="dcterms:W3CDTF">2002-12-10T14:17:33Z</dcterms:modified>
  <cp:revision>2</cp:revision>
  <dc:subject/>
  <dc:title>Management Information System</dc:title>
</cp:coreProperties>
</file>